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A8D-7513-47E8-9861-5F0CA45E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7760" y="404892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188-D7CF-4A61-B1B5-35C97736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3120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82F-1830-41DB-A793-46554876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9804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7832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776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9804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7832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6E0-9DA0-42D4-81C9-C1804EEF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123C1-936E-4B5B-8F7E-819BB41C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10485-387C-4316-8B8D-AA9191FC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B25D6-A1A2-48B5-B477-3B30F72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DD20D-292D-40BF-A6D0-4B4D73F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1ADB8-A150-422C-ADB2-8CA6892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96520" y="188640"/>
            <a:ext cx="554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729C-CCD3-4A03-AA96-DE5416E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F82AA-03D0-46C8-AE7E-038A101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FC9-047F-4C2E-9A9E-F9B945A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3120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2651-E894-4342-A7A8-155F327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E35B2-66CC-452F-8E40-CFF3EC5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17760" y="404892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70F1F-C9CF-4EFF-AA8F-854845A0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3120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577E3-C956-4B45-B743-7F43D134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9804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78320" y="151128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1776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9804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78320" y="4048920"/>
            <a:ext cx="264744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87F46-F7E8-494A-833A-7401863B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471-52EB-43A5-B009-14B18B0B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FC1-2E65-447E-B7F0-DEA3144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E42-4321-472A-9805-965B6F1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96520" y="188640"/>
            <a:ext cx="554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540-52AF-4D08-9E2A-85DC48C6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485-D860-48FF-A309-45B80A0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31200" y="404892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A76-9D86-4290-ACF6-18F1E3E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31200" y="1511280"/>
            <a:ext cx="401256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7760" y="4048920"/>
            <a:ext cx="8223120" cy="2316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A84-8358-48F7-8070-54A5E1E2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440" y="0"/>
          <a:ext cx="9904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0"/>
                    <a:ext cx="990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68160" y="6451560"/>
            <a:ext cx="1189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65240" y="6451560"/>
            <a:ext cx="6840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2160" y="6453360"/>
            <a:ext cx="504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DE9-095F-4CAD-B823-6415FA544467}" type="slidenum"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0" y="0"/>
          <a:ext cx="9904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0"/>
                    <a:ext cx="990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96520" y="3068640"/>
            <a:ext cx="52578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992160" y="6453360"/>
            <a:ext cx="504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BF5-3BD0-4FFD-9645-ABF2370F6911}" type="slidenum"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5"/>
          </p:nvPr>
        </p:nvSpPr>
        <p:spPr>
          <a:xfrm>
            <a:off x="1568160" y="6451560"/>
            <a:ext cx="1189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6"/>
          </p:nvPr>
        </p:nvSpPr>
        <p:spPr>
          <a:xfrm>
            <a:off x="2865240" y="6451560"/>
            <a:ext cx="6840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909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909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ee0025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ee0025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ee0025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3047760"/>
            <a:ext cx="72374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Благотворительные программы компании РУСАЛ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управление, оценка, результаты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ветлана Ивченко, менеджер по благотворительности, РУСА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319200" y="5627520"/>
            <a:ext cx="3421080" cy="3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ентябрь 2006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15840" y="151920"/>
            <a:ext cx="6924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Основная деятельность и благотворительность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9600" y="1371600"/>
            <a:ext cx="55706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аготворительность РУСАЛа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истемный под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егиональных Центров социа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ежрегиональных  благотворительных програм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классных проек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спортивных проек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в будуще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еленый дозо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а социального проектир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азание социальных услуг малоимущ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тнерские проекты (Благотворительные сез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а личных пожертвований  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ьный отчет в соответствии с принципами Глобального согла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20480" y="1371600"/>
            <a:ext cx="33210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АЛ это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инственная частная алюминиевая компания, входящая в </a:t>
            </a:r>
            <a:r>
              <a:rPr b="1" lang="en-US" sz="1600" spc="-1" strike="noStrike">
                <a:solidFill>
                  <a:srgbClr val="c60606"/>
                </a:solidFill>
                <a:latin typeface="Arial"/>
              </a:rPr>
              <a:t>тройку миров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идер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60606"/>
                </a:solidFill>
                <a:latin typeface="Arial"/>
              </a:rPr>
              <a:t>Лиде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ссийской алюминиевой отра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едприятиях компании 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c60606"/>
                </a:solidFill>
                <a:latin typeface="Arial"/>
              </a:rPr>
              <a:t>регионах России и 12 стран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ира работает  </a:t>
            </a:r>
            <a:r>
              <a:rPr b="1" lang="en-US" sz="1600" spc="-1" strike="noStrike">
                <a:solidFill>
                  <a:srgbClr val="c60606"/>
                </a:solidFill>
                <a:latin typeface="Arial"/>
              </a:rPr>
              <a:t>47 000 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758-7208-4885-BB47-97643C1E3E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20235000">
            <a:off x="750600" y="2425680"/>
            <a:ext cx="8224920" cy="3259080"/>
          </a:xfrm>
          <a:prstGeom prst="rightArrow">
            <a:avLst>
              <a:gd name="adj1" fmla="val 50000"/>
              <a:gd name="adj2" fmla="val 63092"/>
            </a:avLst>
          </a:prstGeom>
          <a:solidFill>
            <a:srgbClr val="c0c0c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Интеграция благотворительных программ в основную деятельность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управление по целям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365600" y="1591920"/>
            <a:ext cx="1800" cy="4235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088880" y="1520640"/>
            <a:ext cx="1800" cy="4235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08880" y="231300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e00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Стратегических целей  компании  РУС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37600" y="1268280"/>
            <a:ext cx="27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2f00"/>
                </a:solidFill>
                <a:latin typeface="Arial Black"/>
              </a:rPr>
              <a:t>Стратегия компании РУСАЛ до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3240" y="13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2f00"/>
                </a:solidFill>
                <a:latin typeface="Arial Black"/>
              </a:rPr>
              <a:t>Коммуникационная стратег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3800" y="1413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2f00"/>
                </a:solidFill>
                <a:latin typeface="Arial Black"/>
              </a:rPr>
              <a:t>Цели благотвори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2205000"/>
            <a:ext cx="3384720" cy="36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576"/>
              </a:spcBef>
              <a:buClr>
                <a:srgbClr val="ee0025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йствовать решению социальных проблем регионов прису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76"/>
              </a:spcBef>
              <a:buClr>
                <a:srgbClr val="ee0025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социальной активности  населения (школьники, молодеж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576"/>
              </a:spcBef>
              <a:buClr>
                <a:srgbClr val="ee0025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йствовать организационному развитию участников благотвори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0160" y="2168640"/>
            <a:ext cx="8420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7240" y="2349360"/>
            <a:ext cx="29894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0000"/>
              </a:lnSpc>
              <a:spcBef>
                <a:spcPts val="1576"/>
              </a:spcBef>
              <a:buClr>
                <a:srgbClr val="ee0025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ть и поддерживать репутацию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1400"/>
              </a:spcBef>
              <a:buClr>
                <a:srgbClr val="ee0025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емонстрировать соответствие социальных программ РУСАЛа международным стандарт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160" y="2097000"/>
            <a:ext cx="624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D1D-5738-478F-8979-1C5CE5A35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Какие данные собирает компания 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96880" y="1511280"/>
            <a:ext cx="82440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d2f00"/>
                </a:solidFill>
                <a:latin typeface="Arial Black"/>
              </a:rPr>
              <a:t>Количественные п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м средств на благотворительность: по регионам, по программам, по структур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участников програм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публикаций в СМИ, которые генерируют программ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человеко-часов волонтеров, привлеченных к реализации благотворительных програм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я населения,  которое считает РУСАЛ социально-ответственной компани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знаваемость программ </a:t>
            </a: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d2f00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d2f00"/>
                </a:solidFill>
                <a:latin typeface="Arial Black"/>
              </a:rPr>
              <a:t>Качественные п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истории успех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зультаты проектов в рамках грантовых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ношение к благотворительным программам и к компании в цел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001-2AE7-4A88-9ACB-F9B15DEE5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6480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Что оценивается (на примере разработки и реализации грантового конкурса)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7760" y="151128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нения во внешней вреде (вызов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и населения, целевой 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 положения о грантовом конкурсе (фокус группы с потенциальными участниками программ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явки на конкур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 реализации проек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 реализации проек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ияние грантовой программы на целевую групп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1400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ияние  грантовой программы на показатели основной деятельности: узнаваемость грантовой программы; доля населения, которое воспринимает компанию социально ответствен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48D-BAB6-46EC-8940-9AB840A0C2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6520" y="18864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Black"/>
              </a:rPr>
              <a:t>Благотворительность РУСАЛа в 2004-2006гг.: цифры и факты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53240" y="1376280"/>
          <a:ext cx="37242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376280"/>
                    <a:ext cx="3724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389240" y="1268280"/>
            <a:ext cx="47512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1800" spc="-1" strike="noStrike">
                <a:solidFill>
                  <a:srgbClr val="fd2f00"/>
                </a:solidFill>
                <a:latin typeface="Arial"/>
              </a:rPr>
              <a:t>10 000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л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1800" spc="-1" strike="noStrike">
                <a:solidFill>
                  <a:srgbClr val="fd2f00"/>
                </a:solidFill>
                <a:latin typeface="Arial"/>
              </a:rPr>
              <a:t>5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150 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участников 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0 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асов   волонтерской 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1800" spc="-1" strike="noStrike">
                <a:solidFill>
                  <a:srgbClr val="fd2f00"/>
                </a:solidFill>
                <a:latin typeface="Arial"/>
              </a:rPr>
              <a:t>15%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трудников участвуют в программеличных подертвований, собрано более </a:t>
            </a:r>
            <a:r>
              <a:rPr b="1" lang="ru-RU" sz="1800" spc="-1" strike="noStrike">
                <a:solidFill>
                  <a:srgbClr val="fd2f00"/>
                </a:solidFill>
                <a:latin typeface="Arial"/>
              </a:rPr>
              <a:t>35 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дол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buClr>
                <a:srgbClr val="fd2f00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1" lang="ru-RU" sz="1800" spc="-1" strike="noStrike">
                <a:solidFill>
                  <a:srgbClr val="fd2f00"/>
                </a:solidFill>
                <a:latin typeface="Arial"/>
              </a:rPr>
              <a:t> 45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убликаций о благотворительных програм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884-BA7D-4ED1-820B-2DB396210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90720" y="1295280"/>
          <a:ext cx="94248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94248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447920" y="1295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населения, которой известно о благотворительных проектах РУС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867280"/>
            <a:ext cx="8007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04 г - По результатам социологического исследования Института социологии Р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006 г – По результатам социологического исследования Ф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Благотворительность РУСАЛа в 2004-2006гг.: цифры и факты (продолжение)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335560" y="1219320"/>
            <a:ext cx="457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00"/>
                </a:solidFill>
                <a:latin typeface="Arial"/>
              </a:rPr>
              <a:t>5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читают РУСАЛ социально-ответственной компан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00"/>
                </a:solidFill>
                <a:latin typeface="Arial"/>
              </a:rPr>
              <a:t>48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ожительно оценивают вклад компании в развитие регионов прису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E3B-EFD6-4AA0-A34F-1FBF8E1228C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41:23Z</dcterms:created>
  <dc:creator>roman</dc:creator>
  <dc:description/>
  <dc:language>en-US</dc:language>
  <cp:lastModifiedBy>Balakirev</cp:lastModifiedBy>
  <dcterms:modified xsi:type="dcterms:W3CDTF">2006-09-29T06:16:44Z</dcterms:modified>
  <cp:revision>17</cp:revision>
  <dc:subject/>
  <dc:title>Общая 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10117695</vt:r8>
  </property>
  <property fmtid="{D5CDD505-2E9C-101B-9397-08002B2CF9AE}" pid="3" name="_AuthorEmail">
    <vt:lpwstr>vladimir@processconsulting.ru</vt:lpwstr>
  </property>
  <property fmtid="{D5CDD505-2E9C-101B-9397-08002B2CF9AE}" pid="4" name="_AuthorEmailDisplayName">
    <vt:lpwstr>Balakirev Vladimir</vt:lpwstr>
  </property>
  <property fmtid="{D5CDD505-2E9C-101B-9397-08002B2CF9AE}" pid="5" name="_EmailSubject">
    <vt:lpwstr>политика</vt:lpwstr>
  </property>
  <property fmtid="{D5CDD505-2E9C-101B-9397-08002B2CF9AE}" pid="6" name="_NewReviewCycle">
    <vt:lpwstr/>
  </property>
</Properties>
</file>