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76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30760" y="-360"/>
            <a:ext cx="29289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91404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00000" y="4686120"/>
            <a:ext cx="495936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0" y="9375480"/>
            <a:ext cx="29289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30760" y="9375480"/>
            <a:ext cx="29289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2C60303-8940-48BC-B76C-73D612B6B8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440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0000" y="4686120"/>
            <a:ext cx="495936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Феномену посредничества при прохождении административных процедур уделялось внимание в целом ряде исследований. Можно выделить исследования, проведенные ЦЭФИР, ФИАС (Консультационной службой по иностранным инвестициям), Рабочим центром экономических реформ, Информационно-консультационным центром «Бизнес-Тезаурус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 них подтверждалось, что при прохождении тех или иных административных процедур заметная доля предпринимателей обращаются к специализированным фирмам посредникам (для краткости сюда я сюда отношу и индивидуальных предпринимателей и неоформленных физлиц). Действительно это так, как видно из данных на слайд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Вместе с тем специального исследования посредников как сектора не проводилось. Обычно они изучались как приложение к изучению административных барьеров. И только в последнее время проявился интерес к ним как к инструменту получения информации и самостоятельному объекту из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Находясь на стыке государства и частного сектора, сегмент посреднического рынка, связанный с прохождением административных процедур, представляет особый интерес ввиду его значения для эффективности исполнения государственными органами своих функций, а также реформы государственного регулирования экономики и госслужбы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0000" y="4686120"/>
            <a:ext cx="495936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десь представлено количество опрошенных предпринимателей и посред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сего было опрошено 463 предприятия и индивидуальных предпринимателей. Обратите внимание, что сумма по строке в разрезе основных групп процедур не бьется. Это говорит о том, что опрошенные фирмы встречались с более чем одной изучаемой процедурой и нанимали при этом посредника для их прохожд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Что же касается опрошенных посредников, то их классифицировали по виду деятельности, который является основны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440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0000" y="4686120"/>
            <a:ext cx="495936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мотря на меры правительства по сокращению административных барьеров, административной реформы, реформы госслужбы, можно констатировать, что посреднический рынок раст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айде представлены основные индикаторы, которые были использованы в опросе. Как видно, в среднем на 1,2 работника увеличилась численность опрошенных фирм; И так далее. Уточнить шка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роцедурном разрезе лучше всего себя чувствует процедура перевода из жилого фонда в нежилой. Возможно это связано с изменение правил, которое было обусловлено вступлением в силу новых правил перевода с начала 2005 г. согласно Жилищному кодекс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этой процедуры отличилось лицензирова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440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0000" y="4686120"/>
            <a:ext cx="495936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мотря на меры правительства по сокращению административных барьеров, административной реформы, реформы госслужбы, можно констатировать, что посреднический рынок раст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айде представлены основные индикаторы, которые были использованы в опросе. Как видно, в среднем на 1,2 работника увеличилась численность опрошенных фирм; И так далее. Уточнить шка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роцедурном разрезе лучше всего себя чувствует процедура перевода из жилого фонда в нежилой. Возможно это связано с изменение правил, которое было обусловлено вступлением в силу новых правил перевода с начала 2005 г. согласно Жилищному кодекс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этой процедуры отличилось лицензирова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440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0000" y="4686120"/>
            <a:ext cx="495936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мотря на меры правительства по сокращению административных барьеров, административной реформы, реформы госслужбы, можно констатировать, что посреднический рынок раст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айде представлены основные индикаторы, которые были использованы в опросе. Как видно, в среднем на 1,2 работника увеличилась численность опрошенных фирм; И так далее. Уточнить шка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роцедурном разрезе лучше всего себя чувствует процедура перевода из жилого фонда в нежилой. Возможно это связано с изменение правил, которое было обусловлено вступлением в силу новых правил перевода с начала 2005 г. согласно Жилищному кодекс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этой процедуры отличилось лицензирова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B2E-5A02-4F71-B50B-79FE590F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A41-D353-4A6B-B3AA-2C08868F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EEE8-31DB-4B59-ABEA-95A01377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D662-89D9-4E5F-92E5-551B7C52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D6E2-58F5-4642-A91E-809C9279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01BE-53BE-44F7-A899-0F61569D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F022-C25E-4EC8-874E-C3E066A9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371C-2E1A-498A-9AAF-EA5FC4CB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CEF2-710D-407C-837B-56E88155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2336-2728-4A83-947D-63E0D475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822B-37C9-42F3-9D95-6DA49478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0AA-1924-4861-A14E-1B3842B6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D8CB-C234-415D-9B21-97A619DD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AEF9-38BD-404A-A23F-18C91892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258D-E069-4777-AE8A-E3ABEE46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9BE3-2896-4EA4-BF7E-E5A9F3D5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8574-B137-493D-9FB5-840EEF66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C81-4B28-4C65-AE1B-2E6C3ECF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EAA-4098-41EE-80C6-2ACAC862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64DC-D59D-4A02-836E-B27F842E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70D-93EC-4212-AF54-D602AB20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5C9-C5AC-443E-ADA4-9D0DF934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C5D-7B59-416F-A50F-0BF13080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583-F47E-49F9-9252-40A30FED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6DD9-36AA-48DF-AE45-529A93029A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EB38-8879-422E-8271-03D8EA6FAD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050920" y="692280"/>
            <a:ext cx="6624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Автономная некоммерческая организация «Информационно-консультационный центр «Бизнес-Тезаурус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16720" y="4221000"/>
            <a:ext cx="2300400" cy="70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Соболь Д.В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2636640"/>
            <a:ext cx="712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«Особенности внедрения процедуры оценки регулирующего воздействия в государственных органах власт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bt" descr=""/>
          <p:cNvPicPr/>
          <p:nvPr/>
        </p:nvPicPr>
        <p:blipFill>
          <a:blip r:embed="rId1"/>
          <a:stretch/>
        </p:blipFill>
        <p:spPr>
          <a:xfrm>
            <a:off x="466560" y="268200"/>
            <a:ext cx="1428840" cy="2152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411280" y="5300640"/>
            <a:ext cx="532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Международная конференци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«Реформы и оценивание программ и политик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Москва, ГУ-ВШЭ</a:t>
            </a:r>
            <a:r>
              <a:rPr b="0" lang="de-DE" sz="1600" spc="-1" strike="noStrike">
                <a:solidFill>
                  <a:srgbClr val="ffff00"/>
                </a:solidFill>
                <a:latin typeface="Verdana"/>
              </a:rPr>
              <a:t>,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26-28 сентября</a:t>
            </a:r>
            <a:r>
              <a:rPr b="0" lang="de-DE" sz="1600" spc="-1" strike="noStrike">
                <a:solidFill>
                  <a:srgbClr val="ffff00"/>
                </a:solidFill>
                <a:latin typeface="Verdana"/>
              </a:rPr>
              <a:t> 200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F569-31AE-40E7-B70C-42DB21E4A8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1268280"/>
            <a:ext cx="9180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0"/>
            <a:ext cx="8496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Блок 2. Возможности, необходимые шаги и проблемы использования оценки регулирующего воздействия для целей принятия экономико-политических реш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559880"/>
            <a:ext cx="8883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Совершенствование системы государственного регулирования включает два блока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Создание эффективной системы принятия решений для введения нового регулирования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Программу пересмотра уже принятого регулирования на предмет его экономической целесообразност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174-4CCE-4ABD-8054-6F3F9024E7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1268280"/>
            <a:ext cx="9180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0"/>
            <a:ext cx="8496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Блок 2. Возможности, необходимые шаги и проблемы использования оценки регулирующего воздействия для целей принятия экономико-политических реш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1341360"/>
            <a:ext cx="8569440" cy="54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Создание эффективной системы принятия решений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Установление приоритетов и основных подходов к регулированию в нормативных актах высокого уровн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Установление четких процедур принятия решений о введении государственного регулирования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введение процедур анализа воздействия регулировани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публичное обсуждение проектов нормативных актов и альтернативных предложени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невозможность принятия нормативных актов с нарушением установленных процедур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санкции за нарушение установленных процедур подготовки и принятия нормативных акт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расширение возможностей обжалования нормативных актов, в том числе по процедурных основания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Информационное и методическое обеспечение новых подходов к регулированию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Развитие альтернативных способов регулирования рынков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D68-6A4D-4C51-A432-14FDE7543F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240" y="1268280"/>
            <a:ext cx="9180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8496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Блок 2. Возможности, необходимые шаги и проблемы использования оценки регулирующего воздействия для целей принятия экономико-политических реш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9280" y="1484280"/>
            <a:ext cx="87854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Программа пересмотра уже принятого регулирования на предмет его экономической целесообразнос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Определение порядка и графика пересмотра действующего регулирования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При принятии нового регулирования определение способов и периодичности мониторинга его эффективност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6BB-B0D4-4BD2-B168-82CF7B0401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-36360" y="1268280"/>
            <a:ext cx="9180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8496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Блок 2. Возможности, необходимые шаги и проблемы использования оценки регулирующего воздействия для целей принятия экономико-политических реш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1413000"/>
            <a:ext cx="84960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Первые рекомендации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Оценку регулирующего воздействия целесообразнее проводить на стадии разработки концепции нормативного правового акт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Оценка регулирующего воздействия может быть чрезвычайно полезна для структурирования дискуссии о путях решения тех или иных пробле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Технология может быть окончательно отработана только после «обкатки» различных методов на разных типах регулирующих реше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Помимо инструктивных документов для проведения качественной оценки регулирующего воздействия необходимы соответствующие методические и справочные материал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C89-48CD-4FFA-84FF-2128518962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907920"/>
            <a:ext cx="9180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8675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Блок 3. Ключевые направления, связанные с повышением качества принимаемых регулирующих реш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9280" y="1011240"/>
            <a:ext cx="87138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лючевые направления, связанные с повышением качества принимаемых регулирующих ре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Улучшение качества регулирования посредством ужесточения процедуры подготовки проектов нормативных правовых актов и внедрения четких единых критериев, применение которых обязательно при разработке регулирующих решени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Совершенствование институциональных основ политики, направленной на повышение качества регулирова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Осуществление оценки регулирующего воздействия для всех вновь принимаемых нормативных правовых актов, внедрение соответствующих системных элементов в соответствии с четким заранее разработанным планом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Расширение консультаций и общественных обсуждений в процессе подготовки проекта нормативного правового акт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Сокращение дискреционных полномочий государственных служащих в рамках возложенных на них административных функций, упрощение и повышение открытости соответствующих процедур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F6E3-0A6D-4F66-9450-5920BD7AAA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907920"/>
            <a:ext cx="9180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8675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Блок 3. Ключевые направления, связанные с повышением качества принимаемых регулирующих реш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5840" y="907920"/>
            <a:ext cx="8858160" cy="60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00"/>
                </a:solidFill>
                <a:uFillTx/>
                <a:latin typeface="Times New Roman"/>
              </a:rPr>
              <a:t>Основные направления, на которых должна быть сосредоточена работа по внедрению непосредственно элементов оценки регулирующего воздействия решений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Обеспечение гарантий надлежащего проведения оценки регулирующего воздейств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Разграничение полномочий и распределение ответствен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Оценка влияния. Эффективная оценка регулирующего воздействия должна базироваться на детальном количественном анализ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Развитие и внедрение эффективных механизмов сбора и анализа информа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Повышение профессиональной подготовки разрабатывающих и принимающих регулирующие решения государственных служащи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Целеполагание при проведении оценки регулирующего воздействия. Интеграция оценки регулирующего воздействия в процесс определения направлений реализуемой полити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Повышение прозрачности, привлечение представителей экспертного и гражданского со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9032-E231-49E5-8C29-5AD9699EA3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907920"/>
            <a:ext cx="9180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8675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Блок 3. Ключевые направления, связанные с повышением качества принимаемых регулирующих реш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337440" cy="5157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79280" y="1052640"/>
            <a:ext cx="882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Примерная схема принятия решений в сфере государственного регулирования и периодической оценки регулирующих ме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F6D-A1E4-4BEF-B7D7-AA82D20705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692280"/>
            <a:ext cx="9180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9640" y="189000"/>
            <a:ext cx="373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Заключительные вывод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1272600"/>
            <a:ext cx="85694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В настоящем докладе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рассмотрены основные проблемы, связанные с возможностью внедрения оценки регулирующего воздействия в процессы принятия решений органами государственной власт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представлен перечень основных направлений деятельности, связанной с повышением качества управленческих решений в органах государственной власт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выделены основные направления работ по внедрению непосредственно элементов оценки регулирующего воздействия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832-5B1E-4F1E-AA48-751C55E8E1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9640" y="189000"/>
            <a:ext cx="373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Заключительные вывод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92280"/>
            <a:ext cx="9180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7280" y="912960"/>
            <a:ext cx="88567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В качестве резюме можно отметить тот факт, что, несмотря на наличие ряда существенных проблем, связанных с возможностью внедрения оценки регулирующего воздействия в процессы принятия решений органами государственной власти, потребность в использовании оценки регулирующего воздействия осознается все более четко. При соблюдении определенной последовательности и логики при внедрении оценки регулирующего воздействия в деятельность органов государственной власти данный инструмент может стать одним из важнейших с точки зрения создания возможностей для повышения обоснованности и, тем самым, качества управленческих решени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52F9-CECA-4A59-A990-EDDC3798B7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Спасибо за вним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26920" y="2781360"/>
            <a:ext cx="77058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Автономная некоммерческая организация «Информационно-консультационный центр «Бизнес-Тезаурус»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оболь Д.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ww.nisse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7123-36A8-4747-A236-030500ACCC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285840"/>
            <a:ext cx="2014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Содержание</a:t>
            </a:r>
            <a:r>
              <a:rPr b="0" lang="de-DE" sz="2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1268280"/>
            <a:ext cx="734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Блок 1.  Необходимость и целесообразность внедрения оценки регулирующего воздействия в деятельность органов государственной вла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Блок 2. Возможности, необходимые шаги и проблемы использования оценки регулирующего воздействия для целей принятия экономико-политических ре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Блок 3. Ключевые направления, связанные с повышением качества принимаемых регулирующих ре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Заключительные выво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96CB-C603-4056-93F2-6AB1BBF823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5280" y="0"/>
            <a:ext cx="82296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17316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Введе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928800"/>
            <a:ext cx="8640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Сведения об автономной некоммерческой организации «Информационно-консультационном центре «Бизнес-Тезаурус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Оценка регулирующего воздействия: первый опыт и «рынок» данной тематики глазами «Бизнес-Тезаурус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2AE-C952-487C-B8DB-6237547D67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0"/>
            <a:ext cx="85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Блок 1.  Необходимость и целесообразность внедрения оценки регулирующего воздействия в деятельность органов государственной влас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8240" y="1412280"/>
            <a:ext cx="85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Основные рычаги воздействия на качество регулирования: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2035080"/>
            <a:ext cx="828216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Судебная власть: возможность обжаловать решения, принимаемые на основании НПА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Законодательная власть: рассмотрение проектов НПА Государственной Думой РФ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Исполнительная власть: рассмотрение проектов НПА Правительством РФ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Президент РФ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Министерство юстиции РФ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61D-138A-4761-AA7F-6C39A9EAB5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268280"/>
            <a:ext cx="9180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0"/>
            <a:ext cx="8496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Блок 1.  Необходимость и целесообразность внедрения оценки регулирующего воздействия в деятельность органов государственной влас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1285920"/>
            <a:ext cx="849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Отрицательные стороны существующих рычагов воздействия на качество регулирования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2352600"/>
            <a:ext cx="83502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Направленность на обеспечение «юридической чистоты» законов и иных НПА. Крайне ограниченное рассмотрение вопросов экономической целесообразност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Зачастую формальное отношение к подготовке того или иного рода обоснований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За редким исключением,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ex-post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характер оцен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Несовершенство рассмотренных механизмов в качестве «фильтров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D5B-70CB-4A7F-8CD1-24B5BD34A89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1268280"/>
            <a:ext cx="9180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0"/>
            <a:ext cx="8496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Блок 1.  Необходимость и целесообразность внедрения оценки регулирующего воздействия в деятельность органов государственной влас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1285920"/>
            <a:ext cx="849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Частные случаи существующих рычагов воздействия на качество регулирования – «светлые пятна»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2205000"/>
            <a:ext cx="828036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Сфера антимонопольного регулирования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Сфера технического регулировани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Очевидный плюс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Направленность не только на проверку «юридической чистоты», но и экономического содержания нормативных акт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Кроме того, в сфере технического регулировани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ограничение ведомственного нормотворчества по установлению обязательных требовани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отсутствие монополии на разработку технических регламент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публичность обсуждения проектов технических регламентов заинтересованными сторонами и обязанность разработчика проекта регламента реагировать на полученные замеча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возможность при принятии решения оценить не только сам текст законопроекта, но и поступившие замеча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B84-7677-49A9-B18A-D8CB0C618F9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1268280"/>
            <a:ext cx="9180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0"/>
            <a:ext cx="8496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Блок 1.  Необходимость и целесообразность внедрения оценки регулирующего воздействия в деятельность органов государственной влас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1341000"/>
            <a:ext cx="849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Заключение по блоку 1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8000" y="1848960"/>
            <a:ext cx="9036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На сегодняшний день в России практически отсутствуют нормативные требования, обеспечивающие обязательную оценку экономической целесообразности принятия нормативных правовых актов. В то же время необходимость такой оценки становится все более явной, и ряд федеральных органов исполнительной власти, а также органов субъектов федерации и местного самоуправления, задумывается о необходимости внедрения соответствующих процедур в свою практику. Пока такой опыт весьма незначителен, но он дает возможность сформулировать ряд предложений и рекомендаций по использованию оценки регулирующего воздействия в российской практике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065-EAFB-4609-A807-09A187A124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268280"/>
            <a:ext cx="9180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0"/>
            <a:ext cx="8496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Блок 2. Возможности, необходимые шаги и проблемы использования оценки регулирующего воздействия для целей принятия экономико-политических реш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" y="1413000"/>
            <a:ext cx="849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Основные проблемы применения оценки регулирующего воздействия на уровне государственных органов власти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2422080"/>
            <a:ext cx="82087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Закрепление принципов и процедур оценки на законодательном уровне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«Трудоемкость» процесса проведения и принятия закона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Вопрос концептуальной разработанности форм и методов оценк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Институционализация оцен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Непосредственно институциональное оформление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Вопросы нейтрализации неформальных взаимодейств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Целеполагание и соотнесение затрат при использовании оценки регулирующего воздействия для целей принятия экономико-политических решени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B59-DAFE-4E98-BFC4-1682399CF44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1268280"/>
            <a:ext cx="9180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0"/>
            <a:ext cx="8496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Блок 2. Возможности, необходимые шаги и проблемы использования оценки регулирующего воздействия для целей принятия экономико-политических реш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1359000"/>
            <a:ext cx="871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Общие проблемы для «внешнего» и «внутреннего» оценивания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2383200"/>
            <a:ext cx="87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едостаток необходимых данных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ложность и дороговизна аналитических метод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роблема монетизации неэкономических выгод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ложности выработки адекватных допущений об уровнях риск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ложности оценки непрямых эффект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мешательство лоббистских групп; излишняя бюрократизац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едостаток ресурсов и квалификации оценщик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Трудности в осуществлении контроля за качеством, ведущие к снижению выгод оценив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4DFF-6416-451D-ADAB-422F508C75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6T08:30:13Z</dcterms:created>
  <dc:creator>МГ</dc:creator>
  <dc:description/>
  <dc:language>en-US</dc:language>
  <cp:lastModifiedBy>glebushka</cp:lastModifiedBy>
  <dcterms:modified xsi:type="dcterms:W3CDTF">2007-10-03T10:29:39Z</dcterms:modified>
  <cp:revision>384</cp:revision>
  <dc:subject/>
  <dc:title>Основные направления развития «новой экономики» в России </dc:title>
</cp:coreProperties>
</file>