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0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02E-E578-4224-9BF5-A9C559D1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7D1-9D1C-41BB-A42F-D9D6E74A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B397-625B-492B-B387-4B47355F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FF4-1E42-4ACA-B518-56E46D7C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661-766D-432B-80C1-7BF49664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7FC-67B6-438F-9602-A83255EA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B607-3C92-427A-B4D8-EC46ED1E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9E48-B5D3-461C-B6FC-E8A21A6C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D907-757F-46E6-889A-59AF016F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5E7-E82C-4AFD-B4F6-27CFF83E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A07-7B08-4B62-AECF-B313CA3B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642-EA9A-43B3-B27C-AB60A9D4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398B-46EF-42D8-AC68-07E8207BF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АОИ-ЛОГО"/>
          <p:cNvPicPr/>
          <p:nvPr/>
        </p:nvPicPr>
        <p:blipFill>
          <a:blip r:embed="rId1"/>
          <a:stretch/>
        </p:blipFill>
        <p:spPr>
          <a:xfrm>
            <a:off x="8215200" y="571680"/>
            <a:ext cx="623880" cy="644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лого ИНОП"/>
          <p:cNvPicPr/>
          <p:nvPr/>
        </p:nvPicPr>
        <p:blipFill>
          <a:blip r:embed="rId2"/>
          <a:stretch/>
        </p:blipFill>
        <p:spPr>
          <a:xfrm>
            <a:off x="6000840" y="642960"/>
            <a:ext cx="2070000" cy="642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агентство труда и занятости"/>
          <p:cNvPicPr/>
          <p:nvPr/>
        </p:nvPicPr>
        <p:blipFill>
          <a:blip r:embed="rId3"/>
          <a:srcRect l="0" t="13254" r="0" b="0"/>
          <a:stretch/>
        </p:blipFill>
        <p:spPr>
          <a:xfrm>
            <a:off x="3857760" y="642960"/>
            <a:ext cx="2071440" cy="566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85840" y="1714320"/>
            <a:ext cx="820872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Результаты  научно-исследовательско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"Мониторинг востребованности и качества услуг, предоставляемых службами занятости Красноярского края молодым людям с ограниченными возможностями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00"/>
                </a:solidFill>
                <a:latin typeface="Calibri"/>
              </a:rPr>
              <a:t>(г. Красноярск, Ачинск, Канск, Лесосибирск, Дивногорск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КРОО «Агентство общественных инициати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5f5f"/>
                </a:solidFill>
                <a:latin typeface="Arial"/>
              </a:rPr>
              <a:t>Сентябрь 2008г.-май 2009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5f5f"/>
                </a:solidFill>
                <a:latin typeface="Arial"/>
              </a:rPr>
              <a:t>Красноярский кра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4"/>
          <a:stretch/>
        </p:blipFill>
        <p:spPr>
          <a:xfrm>
            <a:off x="2786040" y="571680"/>
            <a:ext cx="914400" cy="780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46" name="Рисунок 6" descr="492px-Coat_of_arms_of_Krasnoyarsk_Krai.svg.png"/>
          <p:cNvPicPr/>
          <p:nvPr/>
        </p:nvPicPr>
        <p:blipFill>
          <a:blip r:embed="rId5"/>
          <a:stretch/>
        </p:blipFill>
        <p:spPr>
          <a:xfrm>
            <a:off x="285840" y="428760"/>
            <a:ext cx="93816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120px-Usaid_logo.jpg"/>
          <p:cNvPicPr/>
          <p:nvPr/>
        </p:nvPicPr>
        <p:blipFill>
          <a:blip r:embed="rId6"/>
          <a:stretch/>
        </p:blipFill>
        <p:spPr>
          <a:xfrm>
            <a:off x="1357200" y="642960"/>
            <a:ext cx="13478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4"/>
          <p:cNvSpPr/>
          <p:nvPr/>
        </p:nvSpPr>
        <p:spPr>
          <a:xfrm>
            <a:off x="500040" y="1000080"/>
            <a:ext cx="8072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«Какие способы Вы используете для поиска работы, кроме услуг, предоставляемых Службой занятости?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71760" y="3500280"/>
          <a:ext cx="6572160" cy="2725920"/>
        </p:xfrm>
        <a:graphic>
          <a:graphicData uri="http://schemas.openxmlformats.org/drawingml/2006/table">
            <a:tbl>
              <a:tblPr/>
              <a:tblGrid>
                <a:gridCol w="4789440"/>
                <a:gridCol w="178272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indent="449280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иск работы через объявления в средствах массов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indent="-225360"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indent="449280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иск работы через друзей, знаком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indent="-225360"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indent="449280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иск работы напрямую через обращение к желаемому работодат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indent="-225360"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indent="449280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иск работы через общественные организации, некоммерческие струк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indent="-225360"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indent="449280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руг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indent="-225360"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indent="449280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ичего из перечисленного не использу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indent="-225360"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571760" y="2714760"/>
          <a:ext cx="6572160" cy="784080"/>
        </p:xfrm>
        <a:graphic>
          <a:graphicData uri="http://schemas.openxmlformats.org/drawingml/2006/table">
            <a:tbl>
              <a:tblPr/>
              <a:tblGrid>
                <a:gridCol w="4794120"/>
                <a:gridCol w="1778040"/>
              </a:tblGrid>
              <a:tr h="78408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арианты отв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% к ответивш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4"/>
          <p:cNvSpPr/>
          <p:nvPr/>
        </p:nvSpPr>
        <p:spPr>
          <a:xfrm>
            <a:off x="285840" y="857160"/>
            <a:ext cx="8358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«Что Вы предпочтете, если длительное время будете оставаться без работы?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Диаграмма 7" descr=""/>
          <p:cNvPicPr/>
          <p:nvPr/>
        </p:nvPicPr>
        <p:blipFill>
          <a:blip r:embed="rId1"/>
          <a:stretch/>
        </p:blipFill>
        <p:spPr>
          <a:xfrm>
            <a:off x="1420920" y="1852560"/>
            <a:ext cx="6589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285920" y="1857240"/>
          <a:ext cx="6310440" cy="4421160"/>
        </p:xfrm>
        <a:graphic>
          <a:graphicData uri="http://schemas.openxmlformats.org/drawingml/2006/table">
            <a:tbl>
              <a:tblPr/>
              <a:tblGrid>
                <a:gridCol w="4898880"/>
                <a:gridCol w="1411560"/>
              </a:tblGrid>
              <a:tr h="4939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ответивш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олучение информации о порядке предоставления услуг Службой занят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Личное обращение в Службу занятости с целью регистрации и постановки на уч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лучение информации о наличии рабочих мест в организациях горо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олучение информации о своих профессиональных возможност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олучение информации об учебных заведениях гор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Бесплатное обучение востребованной на рынке труда профес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Обучение основам предпринима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Психологическое консультирование по вопросам собеседования с работодателем и адаптации на новом рабочем ме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Участие в ярмарке вакансий, учебных и рабочих ме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Возможность выполнять оплачиваемые общественные работы или участвовать в программах временного трудоустр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Трудоустройство по квотируемым Службой занятости рабочим мес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Друг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Прямоугольник 2"/>
          <p:cNvSpPr/>
          <p:nvPr/>
        </p:nvSpPr>
        <p:spPr>
          <a:xfrm>
            <a:off x="826920" y="549360"/>
            <a:ext cx="70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Какими из услуг, предоставляемых Службой занятости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пользуетесь (пользовались)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071720" y="2000160"/>
          <a:ext cx="7000560" cy="4314960"/>
        </p:xfrm>
        <a:graphic>
          <a:graphicData uri="http://schemas.openxmlformats.org/drawingml/2006/table">
            <a:tbl>
              <a:tblPr/>
              <a:tblGrid>
                <a:gridCol w="769680"/>
                <a:gridCol w="3040200"/>
                <a:gridCol w="809640"/>
                <a:gridCol w="807840"/>
                <a:gridCol w="808200"/>
                <a:gridCol w="765000"/>
              </a:tblGrid>
              <a:tr h="157320">
                <a:tc rowSpan="2"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 отве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опрошенны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800"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информации о порядке предоставления услуг Службой занят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е обращение в Службу занятости с целью регистрации и постановки на уч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информации о наличии рабочих мест в организациях город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информации о своих профессиональных возможностя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информации об учебных заведениях гор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платное обучение востребованной на рынке труда професс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 основам предприниматель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ое консультирование по вопросам собеседования с работодателем и адаптации на новом рабочем мест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ярмарке вакансий, учебных и рабочих ме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выполнять оплачиваемые общественные работы или участвовать в программах временного трудоустрой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устройство по квотируемым Службой занятости рабочим мест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Прямоугольник 2"/>
          <p:cNvSpPr/>
          <p:nvPr/>
        </p:nvSpPr>
        <p:spPr>
          <a:xfrm>
            <a:off x="1908000" y="6206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Удовлетворило ли Вас качество услуг, которыми Вы пользовалис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3"/>
          <p:cNvSpPr/>
          <p:nvPr/>
        </p:nvSpPr>
        <p:spPr>
          <a:xfrm>
            <a:off x="428760" y="7142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Что, по Вашему мнению, мешает большинству работодателей брать на работу соискателей с ограниченными возможностями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6"/>
          <p:cNvGraphicFramePr/>
          <p:nvPr/>
        </p:nvGraphicFramePr>
        <p:xfrm>
          <a:off x="1143000" y="2428920"/>
          <a:ext cx="451656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28920"/>
                    <a:ext cx="451656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857840" y="2428920"/>
          <a:ext cx="2971800" cy="3867120"/>
        </p:xfrm>
        <a:graphic>
          <a:graphicData uri="http://schemas.openxmlformats.org/drawingml/2006/table">
            <a:tbl>
              <a:tblPr/>
              <a:tblGrid>
                <a:gridCol w="2361960"/>
                <a:gridCol w="609840"/>
              </a:tblGrid>
              <a:tr h="80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стереотипов о неполноценности людей с ограниченными возможностями, их малой трудоспособ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у инвалида навыков эффектной самопрезен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желание тратиться на специальные средства, оборудование рабочего места для людей с инвалидност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ивное отсутствие коммерческой выгоды иметь у себя сотрудников с инвалидност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в обществе культуры социальной ответственности, сострадания к окружающ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чего не меша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сновные результаты экспертного опро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120" y="1499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9800" indent="-28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Причины по которым работодатель не хочет брать на работу соискателя с инвалидн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27280" y="2492280"/>
          <a:ext cx="2971800" cy="3867120"/>
        </p:xfrm>
        <a:graphic>
          <a:graphicData uri="http://schemas.openxmlformats.org/drawingml/2006/table">
            <a:tbl>
              <a:tblPr/>
              <a:tblGrid>
                <a:gridCol w="2361960"/>
                <a:gridCol w="609840"/>
              </a:tblGrid>
              <a:tr h="80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стереотипов о неполноценности людей с ограниченными возможностями, их малой трудоспособ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у инвалида навыков эффектной самопрезен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желание тратиться на специальные средства, оборудование рабочего места для людей с инвалидност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ивное отсутствие коммерческой выгоды иметь у себя сотрудников с инвалидност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в обществе культуры социальной ответственности, сострадания к окружающ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чего не меша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Конкурентоспособность соискателей с инвалидностью по мнению эксперт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1428840" y="2143080"/>
            <a:ext cx="621504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1214280" y="2214720"/>
            <a:ext cx="6286680" cy="42116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1071720" y="100008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онкурентоспособность соискателей с инвалидностью по мнению экспе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Какие первоочередные меры, по Вашему мнению, необходимо предпринять в районе, городе для того чтобы сделать трудоустройство людей с инвалидностью проще и эффективнее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00080" y="2500200"/>
          <a:ext cx="7286760" cy="3929040"/>
        </p:xfrm>
        <a:graphic>
          <a:graphicData uri="http://schemas.openxmlformats.org/drawingml/2006/table">
            <a:tbl>
              <a:tblPr/>
              <a:tblGrid>
                <a:gridCol w="5614920"/>
                <a:gridCol w="1671840"/>
              </a:tblGrid>
              <a:tr h="47484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арианты отв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% к ответив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создать технические условия, облегчающие возможность добираться до работы или работать удален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обязывать работодателя создавать специальные условия для работы людей с инвалидност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 сделать строже законодательство в отношении работодателей, отказывающихся нанимать людей с инвалидност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 расширить перечень специальностей для обучения по профессиям, востребованным на рынке тру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 сделать мягче законодательство (налоговые льготы, льготы при аренде земли) в отношении работодателей, использующих труд людей с инвалидност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 обучать людей с инвалидностью большему количеству профессий и специальностей, востребованных на рынке тру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 помогать людям с инвалидностью самостоятельно организовывать рабочие места, стимулировать предпринима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. организовать юридические и психологические консультации для соискателей с инвалидност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коменд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 оказывать, прежде всего, психологическую поддержку (семейная терапия, арт-терапия, и пр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ширить список услуг, включив трудоустройство по квотам, стажировки в социальных учреждениях, организацию встреч с возможным работодателем, обучить навыкам самопрезентации, организовать патронат в первые недели и переподготовк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овать инструменты организации эффективного взаимодействия между Службой занятости и бизнес структурами (работодатели) (например, организация переговорных площадок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1357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еография исследовани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Заказч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следование выполнялось с  сентября 2008 г. в Красноярске и завершилось в мае 2009 г., уже с подключившимися  остальными территори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ялось по заказу Государственной службы  занятости Красноярского края, с поддержкой администрации Красноярского кра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чет подготовлен по статистическими данным, полученным в ходе исследовани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асноярской региональной общественной организацией  «Агентство общественных инициатив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средства государственной поддержки,  выделенные в качестве гранта в соответствии с распоряжением  Президента Российской Федерации от 14 апреля 2008 года № 192–рп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2500200"/>
            <a:ext cx="81151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дуя рекомендациям следующим из исследования , Служба занятости подготовила антикризисную программу по улучшению свое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местном телеканале в г.Красноярске (Афонтово) выпускается ежедневно 15 минутный ролик, освещающий услуги, предоставляемые Службой занят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2008 г. в лагере Тимбирюса в номинации «социальный проект» исследование было отмечено как лучше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1619280" y="2205000"/>
            <a:ext cx="6192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МО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«Сибирский Центр Поддержки Общественных Инициатив»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.Новосибирск, ул. Восход, 14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Arial"/>
              </a:rPr>
              <a:t>www.cip.nsk.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6" descr="492px-Coat_of_arms_of_Krasnoyarsk_Krai.svg.png"/>
          <p:cNvPicPr/>
          <p:nvPr/>
        </p:nvPicPr>
        <p:blipFill>
          <a:blip r:embed="rId1"/>
          <a:stretch/>
        </p:blipFill>
        <p:spPr>
          <a:xfrm>
            <a:off x="285840" y="428760"/>
            <a:ext cx="93816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АОИ-ЛОГО"/>
          <p:cNvPicPr/>
          <p:nvPr/>
        </p:nvPicPr>
        <p:blipFill>
          <a:blip r:embed="rId2"/>
          <a:stretch/>
        </p:blipFill>
        <p:spPr>
          <a:xfrm>
            <a:off x="8215200" y="571680"/>
            <a:ext cx="623880" cy="644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лого ИНОП"/>
          <p:cNvPicPr/>
          <p:nvPr/>
        </p:nvPicPr>
        <p:blipFill>
          <a:blip r:embed="rId3"/>
          <a:stretch/>
        </p:blipFill>
        <p:spPr>
          <a:xfrm>
            <a:off x="6000840" y="642960"/>
            <a:ext cx="2070000" cy="64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агентство труда и занятости"/>
          <p:cNvPicPr/>
          <p:nvPr/>
        </p:nvPicPr>
        <p:blipFill>
          <a:blip r:embed="rId4"/>
          <a:srcRect l="0" t="13254" r="0" b="0"/>
          <a:stretch/>
        </p:blipFill>
        <p:spPr>
          <a:xfrm>
            <a:off x="3857760" y="642960"/>
            <a:ext cx="2071440" cy="566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5"/>
          <a:stretch/>
        </p:blipFill>
        <p:spPr>
          <a:xfrm>
            <a:off x="2786040" y="571680"/>
            <a:ext cx="914400" cy="780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3" name="Рисунок 11" descr="120px-Usaid_logo.jpg"/>
          <p:cNvPicPr/>
          <p:nvPr/>
        </p:nvPicPr>
        <p:blipFill>
          <a:blip r:embed="rId6"/>
          <a:stretch/>
        </p:blipFill>
        <p:spPr>
          <a:xfrm>
            <a:off x="1357200" y="642960"/>
            <a:ext cx="13478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Цель исслед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0040" y="199980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ценить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ровень предоставления государственных услуг по трудоустройству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лодых инвалидов в возрасте до 29 лет, состоящих на учете в Службе занятости и пользующихся услугами Службы занятости на территориях г.г. Красноярска, Канска, Ачинска, Лесосибирска, Дивногорска (+ определить направления его совершенствования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этого в сферу внимания исследования были включены такие аспекты ка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тношение молодых инвалидов, пользующихся услугами Службы занят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статусу безработног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трудовой деятель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предоставляемым услуг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еры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редпринимаемые молодыми инвалидами,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 преодолению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ществующего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ложения безработног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иболее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иоритетные формы и направления работы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трудоустройству молодых инвалид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98064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Методика исслед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42960" y="1999800"/>
            <a:ext cx="38527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Массовый опрос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Телефонный опрос респондент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(молодые люди в возрасте 14-29 с инвалидностью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-Выборка -578 челов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-Квотирование: по полу, возраст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-Условие опроса: молодые люди с инвалидностью, состоящие на учете в Службе занятост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-Проживание респондента на территории более год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785840" y="1999800"/>
            <a:ext cx="3900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Экспертный опрос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Личны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олуформализованные интервь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Выборка - 42 челове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-представители администраци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служб занятост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бизнес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общественных организац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00040" y="1000080"/>
            <a:ext cx="804384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гентство труда и занятости населени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дминистрации Красноярского края реализует следующие программы, направленные на трудоустройство безработны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дресная поддержка граждан, готовых переехать для трудоустройства на постоянную или временную работу в другую местност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едомственная целевая программа «Содействие занятости населения Красноярского края на 2009-2011 годы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грамма «Первое рабочее место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грамма «Общественные работы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грамма «Организация общественных работ» для работодателе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ециальные программ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грамма временного трудоустройства безработных граждан, испытывающих трудности в поиске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грамма содействия развитию малого предпринимательства и самозанятости безработных гражда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грамма дополнительных мероприятий по снижению напряженности на рынке труда Красноярского края на 2009 го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71320" y="11430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ля обеспечения дополнительных гарантий занятости инвалидов Служба занятости проводи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дивидуальные психологические консуль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стирование с целью подбора подходящей сферы профессионального обучения и трудов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нятия по программам социальной адаптации (тренинги. Деловые игр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ацию временных и общественных работ для инвали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е инвалидов профессиям, востребованным на рынке труда (а также обучение основам предпринимательств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ацию и проведение ярмарок вакансий, «Дней открытых дверей» и других специализированных мероприят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1571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Распределение респондентов по возрас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1"/>
          <p:cNvGraphicFramePr/>
          <p:nvPr/>
        </p:nvGraphicFramePr>
        <p:xfrm>
          <a:off x="1785960" y="2571840"/>
          <a:ext cx="4896000" cy="28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2571840"/>
                    <a:ext cx="489600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«Вы остались без работы……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1"/>
          <p:cNvGraphicFramePr/>
          <p:nvPr/>
        </p:nvGraphicFramePr>
        <p:xfrm>
          <a:off x="1332000" y="2565360"/>
          <a:ext cx="6740280" cy="37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565360"/>
                    <a:ext cx="674028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389800" cy="15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Распределение ответов на вопрос «Что служит основным источником дохода для Вас и Вашей семьи сегодня?»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2637000"/>
          <a:ext cx="7416720" cy="3744720"/>
        </p:xfrm>
        <a:graphic>
          <a:graphicData uri="http://schemas.openxmlformats.org/drawingml/2006/table">
            <a:tbl>
              <a:tblPr/>
              <a:tblGrid>
                <a:gridCol w="5184720"/>
                <a:gridCol w="2232000"/>
              </a:tblGrid>
              <a:tr h="78408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арианты отв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% к ответивш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Заработная плата (пенсия) род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Пенсия по инвали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 Пособие по безработи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 Социальные выплаты (субсидии по оплате жилья, на оплату лекарств и др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 Доходы от личного подсобного хозяй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 Временные, случайные зарабо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 Друг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2:51:01Z</dcterms:created>
  <dc:creator>Marina</dc:creator>
  <dc:description/>
  <dc:language>en-US</dc:language>
  <cp:lastModifiedBy>Lyuba</cp:lastModifiedBy>
  <dcterms:modified xsi:type="dcterms:W3CDTF">2009-09-25T11:20:55Z</dcterms:modified>
  <cp:revision>71</cp:revision>
  <dc:subject/>
  <dc:title>Слайд 1</dc:title>
</cp:coreProperties>
</file>