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4A7-AC80-4E30-BB65-80D44490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B1F-C3A0-45A8-8F8D-DAD7BC30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F34-50B7-40D9-8251-185F4E5A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714-0027-43CE-B0AD-B4748940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A23-7E5E-49CD-A732-C0896EB3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852A-59CB-4800-AC47-6F6F4CD2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1706-47AA-47A2-9BDC-FF9E1FB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6F1-6004-412B-A1E2-6EB9FDE3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DB22-272F-4E44-BC45-26AE7FA6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6C7B-2734-4E40-A590-F9BB8BD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F6F7-A75F-40CF-8FB6-B064777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FBB-90EF-427A-AEF8-76AF5DE5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2B71-E841-46ED-AFAC-F16E45A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E943-1ED4-4657-B696-51B5ECB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470A-4AB8-440C-B216-6E1A0171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9EF1-6200-4BC2-90AD-E5A44790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F512-749A-4216-91BE-1E2248E5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D5B-3E3C-4E9D-83DE-BCCFD745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04E-D179-4911-B75D-B42362F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BA7-CE30-41D5-B182-D711A42F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514-147C-40DA-A4DB-E53CF8CF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F88-28D7-43A0-8567-9FA8048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04A-3370-4B06-B8E1-DD9797D8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471-46D7-4B9A-9F39-E07CA71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2972-A31C-40B8-86EE-F3441A0A6F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3EF6-E4EF-4FBE-BEDF-C71ECE9F2D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Опыт применения методов вовлечения участников программ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 процесс вынесения суждений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о программе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талья Кошелев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Компания «Процесс Консалтинг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тод сравнения реальной ситуации с «эталоном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ик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dia Sustainability Ind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о описание «идеальной» ситуации, участников просят сравнить с реальной ситуацией в стра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шкала в балл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основании ответов считаются средние зна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качественный компонент – либо в форме фокус группы, либо в форме индивидуальных интервь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Шкала для бальной оценк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 =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Нет, ситуация в стране не соответствует приведенному описанию; правительство или общественные силы против применения описанных принципов и механизм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 =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Ситуация в стране минимально соответствует приведенному описанию; правительство или общество не против применения описанных принципов и механизмов, но деловая ситуация не позволяет их использовать, а правительство и профессиональное сообщество не поддерживают их внедрени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 =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Ситуация в стране начала в значительной мере соответствовать приведенному описанию, но еще рано говорить о том, сохранится ли такое положение вещей в будущем, либо ситуация все еще зависит от существующего правительства или политических си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 =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Ситуация в стране в значительной мере соответствует приведенному описанию уже несколько лет и сохраняется при смене состава правительства, что говорит о стабильности ситуац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 =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Да, ситуация в стране полностью соответствует приведенному описанию, и она оставалась неизменной при неоднократной передаче власти, изменениях в экономике, смене общественного мнения и/или социальных изменения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ценки даются с точностью до половины балла (0, 0.5, 1.0, 1.5, 2.0, 2.5, 3.0, 3.5, или 4.0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мер инструмен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ндикатор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1: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уществуют и используются юридические и социальные механизмы защиты свободы сло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акова ли ситуация в вашей стране?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арантирует ли Конституция вашей страны свободу слова? Есть ли законы о СМИ или другие нормативные акты, посвященные свободе слова, защищают они ее или ограничивают? В какой степени обеспечивается исполнение данных законов и нормативов? Что мешает исполнению законов? Какие способы юридической защиты существуют, если свобода слова нарушается? Ценится ли свобода слова в обществе? Вызывает ли нарушение свободы слова возмущение в обществе? Соответствуют ли национальные законы международным стандартам прав человека (и свободы выражения)? Являются ли судебные решения по делам, связанным с нарушением свободы слова, независимыми? Нужна ли государственная регистрация для получения доступа в Интернет? Правительство блокирует или ограничивает определенные Интернет-сервисы, например, голосовую связь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ценка для индикатора 1: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зможности приме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ценка эффективности – сравнение «Как должно быть» и «Как есть на самом дел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ониторинг и оценка програм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работка инструмента может быть как часть оценки, так и частью дизайна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авайте попробуем применить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 «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the Path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 –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Нарисуй пройденный путь» - для оценки сегодняшнего дня конферен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 «Корзинка мнений» - чтобы ответить на вопрос: «Какие моменты в процессе взаимодействия с организаторами конференции были для вас наиболее болезненными?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пасибо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талья Кошелев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Компания «Процесс Консалтинг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natalia@processconsulting.ru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ривлечение участников к оценке: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люсы и вызов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ди, непосредственно вовлеченные в проект, обладают уникальными знаниям о н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ровень рефлексии, осмысления проекта на уровне исполнителей и благополучателей обычно очень низк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ценка с участием: цели и задач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 оценки – запустить цикл обучения на опыте: опыт – рефлексия – обобщение – принятие реш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 оценки с участием – вовлечь людей в процессы рефлексии и об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дача специалиста по оценке – фасилитация процесса рефлексии и об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икл обучения на опыт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90960" y="2617920"/>
            <a:ext cx="3119400" cy="3120840"/>
            <a:chOff x="3090960" y="2617920"/>
            <a:chExt cx="3119400" cy="3120840"/>
          </a:xfrm>
        </p:grpSpPr>
        <p:sp>
          <p:nvSpPr>
            <p:cNvPr id="103" name="_s15370"/>
            <p:cNvSpPr/>
            <p:nvPr/>
          </p:nvSpPr>
          <p:spPr>
            <a:xfrm>
              <a:off x="3589200" y="2617920"/>
              <a:ext cx="2122560" cy="212400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_s15375"/>
            <p:cNvSpPr/>
            <p:nvPr/>
          </p:nvSpPr>
          <p:spPr>
            <a:xfrm rot="5400000">
              <a:off x="4087080" y="3116880"/>
              <a:ext cx="2124000" cy="212256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5371"/>
            <p:cNvSpPr/>
            <p:nvPr/>
          </p:nvSpPr>
          <p:spPr>
            <a:xfrm rot="10800000">
              <a:off x="3589200" y="3614760"/>
              <a:ext cx="2122560" cy="212400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15373"/>
            <p:cNvSpPr/>
            <p:nvPr/>
          </p:nvSpPr>
          <p:spPr>
            <a:xfrm rot="16200000">
              <a:off x="3090240" y="3116880"/>
              <a:ext cx="2124000" cy="212256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15368"/>
            <p:cNvSpPr/>
            <p:nvPr/>
          </p:nvSpPr>
          <p:spPr>
            <a:xfrm>
              <a:off x="5214960" y="2811600"/>
              <a:ext cx="7999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Опы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15369"/>
            <p:cNvSpPr/>
            <p:nvPr/>
          </p:nvSpPr>
          <p:spPr>
            <a:xfrm>
              <a:off x="3284640" y="4745160"/>
              <a:ext cx="7999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Обобщение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5372"/>
            <p:cNvSpPr/>
            <p:nvPr/>
          </p:nvSpPr>
          <p:spPr>
            <a:xfrm>
              <a:off x="3282840" y="2813040"/>
              <a:ext cx="8002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Решение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_s15374"/>
            <p:cNvSpPr/>
            <p:nvPr/>
          </p:nvSpPr>
          <p:spPr>
            <a:xfrm>
              <a:off x="5216400" y="4743360"/>
              <a:ext cx="8002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Рефлексия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 «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raw the Path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» –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Нарисуй пройденный путь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работан Россом Коннором для оценки программы развити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ricultural communitie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Австрал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уппу участников из одного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ty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ят изобразить ход проекта в их общине на больших листах бума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тод «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raw the Path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» – модификация авто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овала метод на встрече группы участников проекта развития молодежной инициатив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 каждого участника – свой личный опыт участия в проекте (участие в семинарах, стажировках, реализация проект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ждый изобразил свой опыт – получили общую картин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тод «Корзинка мнений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я – с семинара Нэнси-Элен Кирнан на конференции АЕ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 используется при проведении фокус-групп, когда нужно обсудить больной вопро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зволяет людям высказать свое мнение аноним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тод «Домашнее задание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ла в рамках проекта «Школа – местному сообществу» (6 регион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зентации участников на ежегодной конференции должны были отвечать на конкретный вопро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хожий подход использовала Рита 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лливан при проведении коллаборативной оцен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тод перекрестной работы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малых групп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спользовала при проведении финальной оценки проекта «Школа – местному сообществу» (6 регионов – группы по 6 человек от регион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вопроса 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тветы – сначала обсуждали в 6 группах представителей от региона, потом 3  смешанные группы (по 2 человека от регион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езентация результатов работы смешанных групп на общем засед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8:40:11Z</dcterms:created>
  <dc:creator>Наталья</dc:creator>
  <dc:description/>
  <dc:language>en-US</dc:language>
  <cp:lastModifiedBy>Наталья</cp:lastModifiedBy>
  <dcterms:modified xsi:type="dcterms:W3CDTF">2009-09-24T17:34:42Z</dcterms:modified>
  <cp:revision>17</cp:revision>
  <dc:subject/>
  <dc:title>Опыт применения методов вовлечения участников программ  в процесс вынесения суждений  о программе </dc:title>
</cp:coreProperties>
</file>